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0AD8-87F2-42AE-9415-8BAAFF299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56FE-50F9-4398-817C-8F8A6AE6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198D-DEC2-4740-9E56-E1DE24B73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938F-8327-4658-B41E-F40300A8D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A108-4CEA-4564-B443-61735C6A0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C413-9A46-42D9-A6EA-AEA6CFFF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96AD-5B8C-47C6-99AF-0F98C5CA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77FE-04B4-48AA-850B-7CDEE692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BDF1-B2A4-43B4-9693-3D2BD138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95E5-4953-440F-B469-D886300C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45A8-4021-4297-90CC-66732B3B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70B1-3AE2-4B78-A4D4-CE5FA750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7EC46-C927-4848-BECB-D5781789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DB6B-EB55-40DC-8501-3B05B675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2F25-7F10-450E-AE89-44786011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8C5E-4390-41A4-BC8E-F8E03888B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F0C3-5D9A-43FA-BE00-A126B5B79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3696-81F2-4D56-85DB-55A8CCD5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6E27-A2D2-4EE0-9D8B-B957BEB6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CB47-9028-4700-ABCE-0CC456E9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5BFC-0DBD-4572-92FB-5E49A32B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D713-2FC0-4163-A7AD-89AC7A40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83E4-A368-4D58-8299-00C195B6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609D-6C38-4A9B-B237-FBFC983D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F522-6CD3-4AD1-8614-0730D4F5A2BA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B12F-89C5-4231-BD39-3F61FB8C8FDF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692360"/>
            <a:ext cx="813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四章 寄生虫感染的免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munity in Parasitic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8144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慢性感染和进行性感染都反映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可有效地逃避宿主的免疫效应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免疫逃避机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组织学隔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原变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原伪装（拟态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表面脱落和更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免疫抑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四、免疫逃避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785988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研究抗寄生虫的特异性适应性免疫，对理解寄生虫的致病机制、免疫诊断、流行和防治等都具有十分重要的意义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一、寄生虫抗原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由于寄生虫的结构和生活史复杂使寄生虫抗原具有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复杂性：表面抗原、代谢抗原和虫体抗原，以表面抗原和代谢抗原的免疫源性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多源性：具有属、种、株和期的特异性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二、抗寄生虫的适应性免疫类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5708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消除性免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热带利什曼原虫引起的东方疖可产生消除性免疫，这种免疫现象在寄生虫感染中罕见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非消除性免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带虫免疫：某些寄生虫感染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疟原虫、刚地弓形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可诱导一种特异性免疫应答，使宿主体内的寄生虫数量降低，增殖减慢、维持低水平虫荷，导致临床痊愈，并产生抗特异性攻击的能力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伴随免疫：有些蠕虫感染（日本血吸虫）可诱导宿主产生抗同种寄生虫幼虫再感染的能力，而已寄生的成虫不受保护性免疫的影响，继续存活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89080" y="4110120"/>
            <a:ext cx="2303280" cy="22543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348000" y="4070520"/>
            <a:ext cx="1541520" cy="2311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5796000" y="4076640"/>
            <a:ext cx="3168720" cy="2257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0" y="640080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带虫免疫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疟原虫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670120" y="640080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带虫免疫（刚地弓形虫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724360" y="640080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伴随免疫（日本血吸虫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三、免疫效应机制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体依赖效应机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受体封闭和封闭细胞的黏合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484360" y="314172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体依赖性细胞介导的细胞毒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DC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由经典的补体途径介导依赖抗体杀伤寄生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771640" y="1341360"/>
            <a:ext cx="3602160" cy="22035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770200" y="439416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细胞介导免疫：抗寄生虫的适应性免疫中细胞免疫起重要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淋巴因子活化效应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700360" y="2997360"/>
            <a:ext cx="360216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细胞毒淋巴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自然杀伤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625840" y="1341360"/>
            <a:ext cx="3601800" cy="2203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627280" y="429264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10-05T09:27:14Z</dcterms:modified>
  <cp:revision>122</cp:revision>
  <dc:subject/>
  <dc:title>医学寄生虫学总论</dc:title>
</cp:coreProperties>
</file>